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5.wmf" ContentType="image/x-wmf"/>
  <Override PartName="/ppt/media/image6.png" ContentType="image/png"/>
  <Override PartName="/ppt/media/image7.gif" ContentType="image/gif"/>
  <Override PartName="/ppt/media/image8.gif" ContentType="image/gif"/>
  <Override PartName="/ppt/media/image9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C124-0C7D-43DF-86D9-979017659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1E74-F17A-4D55-AE2B-17B845D56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36DF-CADC-4E1B-8979-5F0DCB1D2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CBE-45E6-449B-9D53-0E866A19A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A185-84DE-4DEA-9704-B69C029B7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577CB-9EB4-44D0-8DF3-4AB8B5C87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0343-FDCC-48F1-B036-DB692CF4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4A47B-50C5-4DF8-917E-45C5E1407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E85F-0877-4B5C-A6C9-4D2F8ED5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7B3AE-487F-4C29-8AA1-474F5BB84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C1F4-CA90-4E72-A618-FF52A6840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942BD-9F07-42D9-AA35-1B44C0DA3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CD4E-103C-4778-B84E-397778DD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7AD7F-9514-469E-950C-51A9BAF55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C7590-64EF-49DE-AB26-7EF09634D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061DF0-E09B-4636-92E4-ACA92F1DB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10F32-D400-4E56-8146-62F0DA856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4F445D-42F3-4FA3-A04C-A4AB35C74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63CD48-EC12-43C7-852A-DEC36A67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C26F3-291A-4D6F-AA04-E0F7A898B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08B80-B945-4E0F-BC49-6C4CCE250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25BBD-614A-4ABC-B4F4-9C2E8276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8535-3D26-45F1-94C9-D9E9B5A74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06F18F-F35D-4454-8500-E5E6BE083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8EBDA-D601-47AC-9C7B-96A8DB252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83581-2CE7-4DE4-85F2-B3524960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83ADB4-A757-43D0-9C16-DC2DA981F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983CDC-150A-4860-9A7F-69AFA0F5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389907-46D7-48F8-A623-137D19CDA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B7EFD7-20A3-4BAB-8760-26EA407CC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FFCC980-A1BB-45C3-91E1-B2F8DA039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C5C5232-1D98-4C63-9F9D-827ED9C0C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3DF98-55E2-4484-823E-7160953EA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9BE5-3958-419E-9139-E925ACA4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2C9239-9C04-4E27-9572-482163EB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AFB55BE-F9E1-4941-84CE-86BAA29C9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4AD6087-C5BD-42D9-85C5-C28947690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2B7E56-2995-4F60-B058-1F6942DEF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447288-3D77-45A7-A522-27546F7A9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8465CC-5B98-449E-AE57-0B8EEDDB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EC03C6E-7822-4158-9BAC-32A576BF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3425AF0-96A3-4AC6-B936-B761A9746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986B42-952E-40C8-96DD-F2AA0F08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AA6ED-FECC-4540-A85A-0A494E932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8F0F-CA0B-466A-8101-5D4AA609D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78ADFC-AAD1-4942-A860-BBF69590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BF2928-49A5-492F-9DFF-792F60ECE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ECD59-9638-40B2-927F-2B71D2608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7BFDFB-603B-4E4A-B1FC-7046754F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1458FA-A947-4348-8700-983305821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4B36A-EC83-4BB8-9AFC-798D2ECF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DA5B05-B99F-4DF9-B2D0-0ED84930F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094A3-F7D8-4416-BB87-83B8EE3A6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C67E57-F806-41DE-8A79-D42799362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7D828-1433-45D8-A0FD-FF0FEF39E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19F1-E6E5-4200-ADE3-8BE24AAC7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6E2558-BA0B-489C-A2D3-1C7D48E50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38DD9-9C0E-499C-8D7C-61FB83931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7655-5D10-40DC-B07A-D38503FEF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4724-CB1F-4AF4-A632-1338DE07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6134040" y="6477120"/>
            <a:ext cx="3009960" cy="3808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-14760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EBA6E-FA0C-4753-883A-711FDA7733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06986-61E6-461A-822D-C732F21F5562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50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D159C-6F07-44A6-BB27-D5FABE5937E3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23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ftr" idx="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0AF01-D125-4EC3-AB84-F89861105483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194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24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24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6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4208-A1A8-4CF5-A979-CD9E16E9FB2B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0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 txBox="1"/>
          <p:nvPr/>
        </p:nvSpPr>
        <p:spPr>
          <a:xfrm>
            <a:off x="1908000" y="2276640"/>
            <a:ext cx="56167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24.2 </a:t>
            </a: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隶书"/>
              </a:rPr>
              <a:t>与圆有关的位置关系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隶书"/>
              <a:ea typeface="隶书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2771640" y="3787920"/>
            <a:ext cx="396108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24.2.1 </a:t>
            </a: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点和圆的位置关系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395280" y="907920"/>
            <a:ext cx="8353440" cy="460872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227640" y="378936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324000" y="138744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如图，作经过已知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圆，这样的圆你能作出多少个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4000" y="1955880"/>
            <a:ext cx="8208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如图作经过已知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圆，这样的圆你能作出多少个？他们的圆心分布有什么特点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2" name=""/>
          <p:cNvGrpSpPr/>
          <p:nvPr/>
        </p:nvGrpSpPr>
        <p:grpSpPr>
          <a:xfrm>
            <a:off x="179280" y="185400"/>
            <a:ext cx="3095640" cy="1097280"/>
            <a:chOff x="179280" y="185400"/>
            <a:chExt cx="3095640" cy="1097280"/>
          </a:xfrm>
        </p:grpSpPr>
        <p:sp>
          <p:nvSpPr>
            <p:cNvPr id="443" name=""/>
            <p:cNvSpPr/>
            <p:nvPr/>
          </p:nvSpPr>
          <p:spPr>
            <a:xfrm>
              <a:off x="395280" y="635040"/>
              <a:ext cx="2879640" cy="647640"/>
            </a:xfrm>
            <a:custGeom>
              <a:avLst/>
              <a:gdLst/>
              <a:ahLst/>
              <a:rect l="l" t="t" r="r" b="b"/>
              <a:pathLst>
                <a:path w="1814" h="408">
                  <a:moveTo>
                    <a:pt x="0" y="181"/>
                  </a:moveTo>
                  <a:lnTo>
                    <a:pt x="1088" y="408"/>
                  </a:lnTo>
                  <a:lnTo>
                    <a:pt x="1814" y="136"/>
                  </a:lnTo>
                  <a:lnTo>
                    <a:pt x="771" y="0"/>
                  </a:lnTo>
                  <a:lnTo>
                    <a:pt x="0" y="181"/>
                  </a:lnTo>
                  <a:close/>
                </a:path>
              </a:pathLst>
            </a:custGeom>
            <a:solidFill>
              <a:srgbClr val="ffcc66"/>
            </a:soli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6200000">
              <a:off x="755640" y="58320"/>
              <a:ext cx="360360" cy="1513080"/>
            </a:xfrm>
            <a:custGeom>
              <a:avLst/>
              <a:gdLst>
                <a:gd name="textAreaLeft" fmla="*/ 48240 w 360360"/>
                <a:gd name="textAreaRight" fmla="*/ 312120 w 360360"/>
                <a:gd name="textAreaTop" fmla="*/ 264600 h 1513080"/>
                <a:gd name="textAreaBottom" fmla="*/ 1096920 h 1513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d8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rot="16200000">
              <a:off x="1150920" y="-48960"/>
              <a:ext cx="216000" cy="1152720"/>
            </a:xfrm>
            <a:custGeom>
              <a:avLst/>
              <a:gdLst>
                <a:gd name="textAreaLeft" fmla="*/ 28800 w 216000"/>
                <a:gd name="textAreaRight" fmla="*/ 187200 w 216000"/>
                <a:gd name="textAreaTop" fmla="*/ 201600 h 1152720"/>
                <a:gd name="textAreaBottom" fmla="*/ 835920 h 115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2682637"/>
                  <a:lnTo>
                    <a:pt x="7200" y="21168"/>
                  </a:lnTo>
                  <a:lnTo>
                    <a:pt x="0" y="17280"/>
                  </a:lnTo>
                  <a:lnTo>
                    <a:pt x="7200" y="12528"/>
                  </a:lnTo>
                  <a:lnTo>
                    <a:pt x="7200" y="14688"/>
                  </a:lnTo>
                  <a:arcTo wR="21600" hR="7560" stAng="2682637" swAng="-2325203"/>
                  <a:lnTo>
                    <a:pt x="20700" y="9720"/>
                  </a:lnTo>
                  <a:arcTo wR="21600" hR="7560" stAng="-357435" swAng="-5042565"/>
                  <a:close/>
                </a:path>
                <a:path fill="darkenLess" w="21600" h="21600">
                  <a:moveTo>
                    <a:pt x="0" y="0"/>
                  </a:moveTo>
                  <a:arcTo wR="21600" hR="7560" stAng="-5400000" swAng="5400000"/>
                  <a:lnTo>
                    <a:pt x="21600" y="11880"/>
                  </a:lnTo>
                  <a:arcTo wR="21600" hR="7560" stAng="0" swAng="-357435"/>
                  <a:lnTo>
                    <a:pt x="20700" y="9720"/>
                  </a:lnTo>
                  <a:arcTo wR="21600" hR="7560" stAng="-357435" swAng="-5042565"/>
                  <a:close/>
                </a:path>
              </a:pathLst>
            </a:custGeom>
            <a:solidFill>
              <a:srgbClr val="a3fbcd"/>
            </a:solidFill>
            <a:ln w="9360">
              <a:solidFill>
                <a:srgbClr val="33cc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16680000">
              <a:off x="1697760" y="-207360"/>
              <a:ext cx="144360" cy="1079280"/>
            </a:xfrm>
            <a:custGeom>
              <a:avLst/>
              <a:gdLst>
                <a:gd name="textAreaLeft" fmla="*/ 19080 w 144360"/>
                <a:gd name="textAreaRight" fmla="*/ 125280 w 144360"/>
                <a:gd name="textAreaTop" fmla="*/ 174240 h 1079280"/>
                <a:gd name="textAreaBottom" fmla="*/ 766080 h 1079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6978" stAng="-5400000" swAng="5400000"/>
                  <a:lnTo>
                    <a:pt x="21600" y="11838"/>
                  </a:lnTo>
                  <a:arcTo wR="21600" hR="6978" stAng="0" swAng="3480798"/>
                  <a:lnTo>
                    <a:pt x="4272" y="21462"/>
                  </a:lnTo>
                  <a:lnTo>
                    <a:pt x="0" y="16386"/>
                  </a:lnTo>
                  <a:lnTo>
                    <a:pt x="4272" y="11034"/>
                  </a:lnTo>
                  <a:lnTo>
                    <a:pt x="4272" y="13818"/>
                  </a:lnTo>
                  <a:arcTo wR="21600" hR="6978" stAng="3480798" swAng="-3070191"/>
                  <a:lnTo>
                    <a:pt x="20248" y="9408"/>
                  </a:lnTo>
                  <a:arcTo wR="21600" hR="6978" stAng="-410607" swAng="-4989393"/>
                  <a:close/>
                </a:path>
                <a:path fill="darkenLess" w="21600" h="21600">
                  <a:moveTo>
                    <a:pt x="0" y="0"/>
                  </a:moveTo>
                  <a:arcTo wR="21600" hR="6978" stAng="-5400000" swAng="5400000"/>
                  <a:lnTo>
                    <a:pt x="21600" y="11838"/>
                  </a:lnTo>
                  <a:arcTo wR="21600" hR="6978" stAng="0" swAng="-410607"/>
                  <a:lnTo>
                    <a:pt x="20248" y="9408"/>
                  </a:lnTo>
                  <a:arcTo wR="21600" hR="6978" stAng="-410607" swAng="-4989393"/>
                  <a:close/>
                </a:path>
              </a:pathLst>
            </a:custGeom>
            <a:solidFill>
              <a:srgbClr val="b9e5d4"/>
            </a:solidFill>
            <a:ln w="93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836720" y="274680"/>
              <a:ext cx="12258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3300"/>
                  </a:solidFill>
                  <a:latin typeface="隶书"/>
                  <a:ea typeface="隶书"/>
                </a:rPr>
                <a:t>探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"/>
          <p:cNvSpPr/>
          <p:nvPr/>
        </p:nvSpPr>
        <p:spPr>
          <a:xfrm>
            <a:off x="1692360" y="4221000"/>
            <a:ext cx="1008000" cy="1008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050920" y="3284640"/>
            <a:ext cx="1441440" cy="144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56000" y="4581360"/>
            <a:ext cx="865080" cy="865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478480" y="3716280"/>
            <a:ext cx="100800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84720" y="3500280"/>
            <a:ext cx="1441440" cy="144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5796000" y="3789360"/>
            <a:ext cx="865080" cy="865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4859280" y="4235400"/>
            <a:ext cx="30974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012000" y="33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012000" y="47973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627280" y="4292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6199200" y="4624560"/>
            <a:ext cx="7308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199200" y="3745080"/>
            <a:ext cx="73080" cy="727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775560" y="4192560"/>
            <a:ext cx="73080" cy="73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84800" y="4192560"/>
            <a:ext cx="73080" cy="73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5938920" y="4192560"/>
            <a:ext cx="73080" cy="73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655720" y="4681440"/>
            <a:ext cx="730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728800" y="3975120"/>
            <a:ext cx="73080" cy="73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152800" y="4710240"/>
            <a:ext cx="72720" cy="7272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30400" y="4997520"/>
            <a:ext cx="73080" cy="7308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66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1" dur="2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86" dur="2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96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1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06" dur="2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5" dur="2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50" dur="2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5" dur="2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60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5" dur="2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70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7" name=""/>
          <p:cNvGrpSpPr/>
          <p:nvPr/>
        </p:nvGrpSpPr>
        <p:grpSpPr>
          <a:xfrm>
            <a:off x="611280" y="4510080"/>
            <a:ext cx="8207280" cy="1655640"/>
            <a:chOff x="611280" y="4510080"/>
            <a:chExt cx="8207280" cy="1655640"/>
          </a:xfrm>
        </p:grpSpPr>
        <p:sp>
          <p:nvSpPr>
            <p:cNvPr id="468" name=""/>
            <p:cNvSpPr/>
            <p:nvPr/>
          </p:nvSpPr>
          <p:spPr>
            <a:xfrm>
              <a:off x="611280" y="4510080"/>
              <a:ext cx="8207280" cy="165564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971640" y="4861080"/>
              <a:ext cx="7634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）经过不在同一条直线上的三点作一个圆，如何确定这个圆的圆心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22200" y="1484280"/>
            <a:ext cx="2305080" cy="888840"/>
            <a:chOff x="322200" y="1484280"/>
            <a:chExt cx="2305080" cy="888840"/>
          </a:xfrm>
        </p:grpSpPr>
        <p:sp>
          <p:nvSpPr>
            <p:cNvPr id="471" name=""/>
            <p:cNvSpPr/>
            <p:nvPr/>
          </p:nvSpPr>
          <p:spPr>
            <a:xfrm>
              <a:off x="1330200" y="1869840"/>
              <a:ext cx="1297080" cy="287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682560" y="1509480"/>
              <a:ext cx="647640" cy="648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22200" y="1869840"/>
              <a:ext cx="1319400" cy="490680"/>
            </a:xfrm>
            <a:custGeom>
              <a:avLst/>
              <a:gdLst/>
              <a:ahLst/>
              <a:rect l="l" t="t" r="r" b="b"/>
              <a:pathLst>
                <a:path w="566" h="309">
                  <a:moveTo>
                    <a:pt x="15" y="211"/>
                  </a:moveTo>
                  <a:cubicBezTo>
                    <a:pt x="0" y="181"/>
                    <a:pt x="83" y="60"/>
                    <a:pt x="151" y="30"/>
                  </a:cubicBezTo>
                  <a:cubicBezTo>
                    <a:pt x="219" y="0"/>
                    <a:pt x="355" y="7"/>
                    <a:pt x="423" y="30"/>
                  </a:cubicBezTo>
                  <a:cubicBezTo>
                    <a:pt x="491" y="53"/>
                    <a:pt x="566" y="121"/>
                    <a:pt x="559" y="166"/>
                  </a:cubicBezTo>
                  <a:cubicBezTo>
                    <a:pt x="552" y="211"/>
                    <a:pt x="431" y="295"/>
                    <a:pt x="378" y="302"/>
                  </a:cubicBezTo>
                  <a:cubicBezTo>
                    <a:pt x="325" y="309"/>
                    <a:pt x="302" y="219"/>
                    <a:pt x="242" y="211"/>
                  </a:cubicBezTo>
                  <a:cubicBezTo>
                    <a:pt x="182" y="203"/>
                    <a:pt x="30" y="241"/>
                    <a:pt x="15" y="211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22200" y="1882800"/>
              <a:ext cx="1319400" cy="490320"/>
            </a:xfrm>
            <a:custGeom>
              <a:avLst/>
              <a:gdLst/>
              <a:ahLst/>
              <a:rect l="l" t="t" r="r" b="b"/>
              <a:pathLst>
                <a:path w="566" h="309">
                  <a:moveTo>
                    <a:pt x="15" y="211"/>
                  </a:moveTo>
                  <a:cubicBezTo>
                    <a:pt x="0" y="181"/>
                    <a:pt x="83" y="60"/>
                    <a:pt x="151" y="30"/>
                  </a:cubicBezTo>
                  <a:cubicBezTo>
                    <a:pt x="219" y="0"/>
                    <a:pt x="355" y="7"/>
                    <a:pt x="423" y="30"/>
                  </a:cubicBezTo>
                  <a:cubicBezTo>
                    <a:pt x="491" y="53"/>
                    <a:pt x="566" y="121"/>
                    <a:pt x="559" y="166"/>
                  </a:cubicBezTo>
                  <a:cubicBezTo>
                    <a:pt x="552" y="211"/>
                    <a:pt x="431" y="295"/>
                    <a:pt x="378" y="302"/>
                  </a:cubicBezTo>
                  <a:cubicBezTo>
                    <a:pt x="325" y="309"/>
                    <a:pt x="302" y="219"/>
                    <a:pt x="242" y="211"/>
                  </a:cubicBezTo>
                  <a:cubicBezTo>
                    <a:pt x="182" y="203"/>
                    <a:pt x="30" y="241"/>
                    <a:pt x="15" y="211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 txBox="1"/>
            <p:nvPr/>
          </p:nvSpPr>
          <p:spPr>
            <a:xfrm>
              <a:off x="874800" y="1596960"/>
              <a:ext cx="301680" cy="52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?</a:t>
              </a:r>
              <a:endPara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476" name=""/>
            <p:cNvSpPr txBox="1"/>
            <p:nvPr/>
          </p:nvSpPr>
          <p:spPr>
            <a:xfrm>
              <a:off x="1474920" y="148428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思</a:t>
              </a:r>
              <a:endPara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  <p:sp>
          <p:nvSpPr>
            <p:cNvPr id="477" name=""/>
            <p:cNvSpPr txBox="1"/>
            <p:nvPr/>
          </p:nvSpPr>
          <p:spPr>
            <a:xfrm>
              <a:off x="2035080" y="170964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考</a:t>
              </a:r>
              <a:endPara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478" name=""/>
          <p:cNvGrpSpPr/>
          <p:nvPr/>
        </p:nvGrpSpPr>
        <p:grpSpPr>
          <a:xfrm>
            <a:off x="612720" y="2565360"/>
            <a:ext cx="8207280" cy="1224000"/>
            <a:chOff x="612720" y="2565360"/>
            <a:chExt cx="8207280" cy="1224000"/>
          </a:xfrm>
        </p:grpSpPr>
        <p:sp>
          <p:nvSpPr>
            <p:cNvPr id="479" name=""/>
            <p:cNvSpPr/>
            <p:nvPr/>
          </p:nvSpPr>
          <p:spPr>
            <a:xfrm>
              <a:off x="612720" y="2565360"/>
              <a:ext cx="8207280" cy="122400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69840" y="2838600"/>
              <a:ext cx="770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</a:rPr>
                <a:t>经过已知的三点作圆，这样的圆能作出多少个？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3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/>
          <p:nvPr/>
        </p:nvSpPr>
        <p:spPr>
          <a:xfrm>
            <a:off x="6330960" y="3767040"/>
            <a:ext cx="1752480" cy="1700280"/>
          </a:xfrm>
          <a:custGeom>
            <a:avLst/>
            <a:gdLst/>
            <a:ahLst/>
            <a:rect l="l" t="t" r="r" b="b"/>
            <a:pathLst>
              <a:path w="1104" h="1071">
                <a:moveTo>
                  <a:pt x="1104" y="0"/>
                </a:moveTo>
                <a:lnTo>
                  <a:pt x="0" y="1071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342120" y="547380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088480" y="3772080"/>
            <a:ext cx="414000" cy="1695240"/>
          </a:xfrm>
          <a:custGeom>
            <a:avLst/>
            <a:gdLst/>
            <a:ahLst/>
            <a:rect l="l" t="t" r="r" b="b"/>
            <a:pathLst>
              <a:path w="261" h="1068">
                <a:moveTo>
                  <a:pt x="0" y="0"/>
                </a:moveTo>
                <a:lnTo>
                  <a:pt x="261" y="1068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55640" y="5635800"/>
            <a:ext cx="54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不在同一条直线上的三点确定一个圆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154560" y="3573360"/>
            <a:ext cx="2519640" cy="2519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7408800" y="429264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154560" y="3645000"/>
            <a:ext cx="1441800" cy="136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523280" y="4149720"/>
            <a:ext cx="14436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716880" y="4941720"/>
            <a:ext cx="14436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6946920" y="5373720"/>
            <a:ext cx="1008000" cy="216000"/>
            <a:chOff x="6946920" y="5373720"/>
            <a:chExt cx="1008000" cy="216000"/>
          </a:xfrm>
        </p:grpSpPr>
        <p:sp>
          <p:nvSpPr>
            <p:cNvPr id="491" name=""/>
            <p:cNvSpPr/>
            <p:nvPr/>
          </p:nvSpPr>
          <p:spPr>
            <a:xfrm>
              <a:off x="6946920" y="537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20000" y="537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881840" y="537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7954920" y="5373720"/>
              <a:ext cx="0" cy="2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5" name=""/>
          <p:cNvSpPr/>
          <p:nvPr/>
        </p:nvSpPr>
        <p:spPr>
          <a:xfrm>
            <a:off x="8531280" y="5373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7451640" y="458136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8028000" y="33577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5867280" y="53672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6299280" y="328464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451640" y="6165720"/>
            <a:ext cx="5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6299280" y="5430960"/>
            <a:ext cx="730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8056440" y="3730680"/>
            <a:ext cx="730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8459640" y="5430960"/>
            <a:ext cx="730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39640" y="289404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以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圆心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（或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B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为半径作圆，便可以作出经过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圆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 txBox="1"/>
          <p:nvPr/>
        </p:nvSpPr>
        <p:spPr>
          <a:xfrm>
            <a:off x="3851280" y="262080"/>
            <a:ext cx="1225440" cy="358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做法</a:t>
            </a:r>
            <a:endParaRPr b="0" lang="en-US" sz="1800" spc="1" strike="noStrike">
              <a:ln w="9360">
                <a:solidFill>
                  <a:srgbClr val="00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sp>
        <p:nvSpPr>
          <p:cNvPr id="506" name=""/>
          <p:cNvSpPr/>
          <p:nvPr/>
        </p:nvSpPr>
        <p:spPr>
          <a:xfrm>
            <a:off x="539640" y="955800"/>
            <a:ext cx="41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别连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C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9640" y="1557360"/>
            <a:ext cx="6553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分别作出线段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垂直平分线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和线段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垂直平分线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i="1" lang="zh-CN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设它们的交点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A=OB=O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380360" y="4811760"/>
            <a:ext cx="730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68360" y="4257720"/>
            <a:ext cx="558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由于过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三点的圆的圆心只能是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半径等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所以这样的圆只能有一个，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5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46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61" dur="20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539640" y="2560680"/>
            <a:ext cx="489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外接圆的圆心是三角形三条边垂直平分线的交点，叫做这个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三角形的外心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867280" y="2854440"/>
            <a:ext cx="2519640" cy="251928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040440" y="3041640"/>
            <a:ext cx="2162160" cy="1712880"/>
          </a:xfrm>
          <a:prstGeom prst="triangle">
            <a:avLst>
              <a:gd name="adj" fmla="val 80931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8244000" y="4654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236000" y="38624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740720" y="26384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580000" y="46483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6012000" y="4711680"/>
            <a:ext cx="7272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769160" y="3011400"/>
            <a:ext cx="730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172360" y="4711680"/>
            <a:ext cx="73080" cy="730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539640" y="1125360"/>
            <a:ext cx="7372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经过三角形的三个顶点可以作一个圆，这个圆叫做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三角形的外接圆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093080" y="4076640"/>
            <a:ext cx="71280" cy="71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4" dur="indefinite" restart="never" nodeType="tmRoot">
          <p:childTnLst>
            <p:seq>
              <p:cTn id="475" dur="indefinite" nodeType="mainSeq">
                <p:childTnLst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0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85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539640" y="46656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思考：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如图，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所在的直线垂直平分线段</a:t>
            </a:r>
            <a:r>
              <a:rPr b="1" i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A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怎样用这样的工具找到圆形工件的圆心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940360" y="2246400"/>
            <a:ext cx="1871640" cy="1871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657840" y="4184640"/>
            <a:ext cx="50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" name=""/>
          <p:cNvGrpSpPr/>
          <p:nvPr/>
        </p:nvGrpSpPr>
        <p:grpSpPr>
          <a:xfrm>
            <a:off x="5722920" y="2168640"/>
            <a:ext cx="2305080" cy="1950480"/>
            <a:chOff x="5722920" y="2168640"/>
            <a:chExt cx="2305080" cy="1950480"/>
          </a:xfrm>
        </p:grpSpPr>
        <p:sp>
          <p:nvSpPr>
            <p:cNvPr id="526" name=""/>
            <p:cNvSpPr/>
            <p:nvPr/>
          </p:nvSpPr>
          <p:spPr>
            <a:xfrm>
              <a:off x="5722920" y="2241360"/>
              <a:ext cx="504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522920" y="2168640"/>
              <a:ext cx="5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8" name=""/>
            <p:cNvGrpSpPr/>
            <p:nvPr/>
          </p:nvGrpSpPr>
          <p:grpSpPr>
            <a:xfrm>
              <a:off x="6225840" y="2247840"/>
              <a:ext cx="1297080" cy="1871280"/>
              <a:chOff x="6225840" y="2247840"/>
              <a:chExt cx="1297080" cy="1871280"/>
            </a:xfrm>
          </p:grpSpPr>
          <p:sp>
            <p:nvSpPr>
              <p:cNvPr id="529" name=""/>
              <p:cNvSpPr/>
              <p:nvPr/>
            </p:nvSpPr>
            <p:spPr>
              <a:xfrm>
                <a:off x="6875280" y="2534760"/>
                <a:ext cx="360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0" name=""/>
              <p:cNvGrpSpPr/>
              <p:nvPr/>
            </p:nvGrpSpPr>
            <p:grpSpPr>
              <a:xfrm>
                <a:off x="6225840" y="2247840"/>
                <a:ext cx="1297080" cy="1871280"/>
                <a:chOff x="6225840" y="2247840"/>
                <a:chExt cx="1297080" cy="187128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6225840" y="2528280"/>
                  <a:ext cx="1297080" cy="7128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4480" bIns="2448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831000" y="2587320"/>
                  <a:ext cx="71280" cy="1510920"/>
                </a:xfrm>
                <a:prstGeom prst="rect">
                  <a:avLst/>
                </a:prstGeom>
                <a:solidFill>
                  <a:srgbClr val="cc99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"/>
                <p:cNvSpPr/>
                <p:nvPr/>
              </p:nvSpPr>
              <p:spPr>
                <a:xfrm>
                  <a:off x="6860880" y="2247840"/>
                  <a:ext cx="0" cy="1871280"/>
                </a:xfrm>
                <a:prstGeom prst="line">
                  <a:avLst/>
                </a:prstGeom>
                <a:ln w="28440">
                  <a:solidFill>
                    <a:srgbClr val="ffffff">
                      <a:alpha val="1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34" name=""/>
          <p:cNvSpPr/>
          <p:nvPr/>
        </p:nvSpPr>
        <p:spPr>
          <a:xfrm>
            <a:off x="6875640" y="2247840"/>
            <a:ext cx="0" cy="1871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 flipH="1">
            <a:off x="6063840" y="2729520"/>
            <a:ext cx="1621080" cy="935640"/>
          </a:xfrm>
          <a:prstGeom prst="line">
            <a:avLst/>
          </a:prstGeom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875640" y="3097080"/>
            <a:ext cx="50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846840" y="3154320"/>
            <a:ext cx="71640" cy="71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84360" y="1886040"/>
            <a:ext cx="446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∵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两点在圆上，所以圆心必与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A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、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两点的距离相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84360" y="3111480"/>
            <a:ext cx="51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又∵和一条线段的两个端点距离相等的点在这条线段的垂直平分线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684360" y="4406760"/>
            <a:ext cx="54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∴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圆心在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CD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所在的直线上，因此可以做任意两条直径，它们的交点为圆心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8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0">
                                      <p:cBhvr>
                                        <p:cTn id="512" dur="2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539640" y="1052640"/>
            <a:ext cx="8207640" cy="1008000"/>
          </a:xfrm>
          <a:prstGeom prst="rect">
            <a:avLst/>
          </a:prstGeom>
          <a:solidFill>
            <a:srgbClr val="ffffff"/>
          </a:solidFill>
          <a:ln w="28440">
            <a:solidFill>
              <a:srgbClr val="cc99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900000" y="1341360"/>
            <a:ext cx="770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经过同一条直线三个点能作出一个圆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3" name=""/>
          <p:cNvGrpSpPr/>
          <p:nvPr/>
        </p:nvGrpSpPr>
        <p:grpSpPr>
          <a:xfrm>
            <a:off x="250920" y="476280"/>
            <a:ext cx="2305080" cy="888840"/>
            <a:chOff x="250920" y="476280"/>
            <a:chExt cx="2305080" cy="888840"/>
          </a:xfrm>
        </p:grpSpPr>
        <p:sp>
          <p:nvSpPr>
            <p:cNvPr id="544" name=""/>
            <p:cNvSpPr/>
            <p:nvPr/>
          </p:nvSpPr>
          <p:spPr>
            <a:xfrm>
              <a:off x="1258920" y="861840"/>
              <a:ext cx="1297080" cy="287640"/>
            </a:xfrm>
            <a:prstGeom prst="rect">
              <a:avLst/>
            </a:prstGeom>
            <a:solidFill>
              <a:srgbClr val="ffcc66"/>
            </a:solidFill>
            <a:ln w="9360">
              <a:solidFill>
                <a:srgbClr val="ffcc66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11280" y="501480"/>
              <a:ext cx="647640" cy="6480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50920" y="861840"/>
              <a:ext cx="1319400" cy="490680"/>
            </a:xfrm>
            <a:custGeom>
              <a:avLst/>
              <a:gdLst/>
              <a:ahLst/>
              <a:rect l="l" t="t" r="r" b="b"/>
              <a:pathLst>
                <a:path w="566" h="309">
                  <a:moveTo>
                    <a:pt x="15" y="211"/>
                  </a:moveTo>
                  <a:cubicBezTo>
                    <a:pt x="0" y="181"/>
                    <a:pt x="83" y="60"/>
                    <a:pt x="151" y="30"/>
                  </a:cubicBezTo>
                  <a:cubicBezTo>
                    <a:pt x="219" y="0"/>
                    <a:pt x="355" y="7"/>
                    <a:pt x="423" y="30"/>
                  </a:cubicBezTo>
                  <a:cubicBezTo>
                    <a:pt x="491" y="53"/>
                    <a:pt x="566" y="121"/>
                    <a:pt x="559" y="166"/>
                  </a:cubicBezTo>
                  <a:cubicBezTo>
                    <a:pt x="552" y="211"/>
                    <a:pt x="431" y="295"/>
                    <a:pt x="378" y="302"/>
                  </a:cubicBezTo>
                  <a:cubicBezTo>
                    <a:pt x="325" y="309"/>
                    <a:pt x="302" y="219"/>
                    <a:pt x="242" y="211"/>
                  </a:cubicBezTo>
                  <a:cubicBezTo>
                    <a:pt x="182" y="203"/>
                    <a:pt x="30" y="241"/>
                    <a:pt x="15" y="211"/>
                  </a:cubicBez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50920" y="874800"/>
              <a:ext cx="1319400" cy="490320"/>
            </a:xfrm>
            <a:custGeom>
              <a:avLst/>
              <a:gdLst/>
              <a:ahLst/>
              <a:rect l="l" t="t" r="r" b="b"/>
              <a:pathLst>
                <a:path w="566" h="309">
                  <a:moveTo>
                    <a:pt x="15" y="211"/>
                  </a:moveTo>
                  <a:cubicBezTo>
                    <a:pt x="0" y="181"/>
                    <a:pt x="83" y="60"/>
                    <a:pt x="151" y="30"/>
                  </a:cubicBezTo>
                  <a:cubicBezTo>
                    <a:pt x="219" y="0"/>
                    <a:pt x="355" y="7"/>
                    <a:pt x="423" y="30"/>
                  </a:cubicBezTo>
                  <a:cubicBezTo>
                    <a:pt x="491" y="53"/>
                    <a:pt x="566" y="121"/>
                    <a:pt x="559" y="166"/>
                  </a:cubicBezTo>
                  <a:cubicBezTo>
                    <a:pt x="552" y="211"/>
                    <a:pt x="431" y="295"/>
                    <a:pt x="378" y="302"/>
                  </a:cubicBezTo>
                  <a:cubicBezTo>
                    <a:pt x="325" y="309"/>
                    <a:pt x="302" y="219"/>
                    <a:pt x="242" y="211"/>
                  </a:cubicBezTo>
                  <a:cubicBezTo>
                    <a:pt x="182" y="203"/>
                    <a:pt x="30" y="241"/>
                    <a:pt x="15" y="211"/>
                  </a:cubicBez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 txBox="1"/>
            <p:nvPr/>
          </p:nvSpPr>
          <p:spPr>
            <a:xfrm>
              <a:off x="803520" y="588960"/>
              <a:ext cx="301680" cy="528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ffff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?</a:t>
              </a:r>
              <a:endPara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  <p:sp>
          <p:nvSpPr>
            <p:cNvPr id="549" name=""/>
            <p:cNvSpPr txBox="1"/>
            <p:nvPr/>
          </p:nvSpPr>
          <p:spPr>
            <a:xfrm>
              <a:off x="1403640" y="47628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思</a:t>
              </a:r>
              <a:endPara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  <p:sp>
          <p:nvSpPr>
            <p:cNvPr id="550" name=""/>
            <p:cNvSpPr txBox="1"/>
            <p:nvPr/>
          </p:nvSpPr>
          <p:spPr>
            <a:xfrm>
              <a:off x="1963800" y="701640"/>
              <a:ext cx="45720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9360">
                    <a:solidFill>
                      <a:srgbClr val="ff3300"/>
                    </a:solidFill>
                    <a:miter/>
                  </a:ln>
                  <a:solidFill>
                    <a:srgbClr val="ff3300"/>
                  </a:solidFill>
                  <a:latin typeface="宋体"/>
                </a:rPr>
                <a:t>考</a:t>
              </a:r>
              <a:endParaRPr b="0" lang="en-US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551" name="m16Arc 211"/>
          <p:cNvSpPr/>
          <p:nvPr/>
        </p:nvSpPr>
        <p:spPr>
          <a:xfrm>
            <a:off x="1403280" y="3429000"/>
            <a:ext cx="1080720" cy="1143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10712"/>
                </a:moveTo>
                <a:arcTo wR="10800" hR="10800" stAng="-10772052" swAng="10772052"/>
                <a:lnTo>
                  <a:pt x="10800" y="10800"/>
                </a:lnTo>
                <a:close/>
              </a:path>
              <a:path fill="none" w="21600" h="21600">
                <a:moveTo>
                  <a:pt x="0" y="10712"/>
                </a:moveTo>
                <a:arcTo wR="10800" hR="10800" stAng="-10772052" swAng="10772052"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611280" y="3068640"/>
            <a:ext cx="3095640" cy="2601720"/>
            <a:chOff x="611280" y="3068640"/>
            <a:chExt cx="3095640" cy="2601720"/>
          </a:xfrm>
        </p:grpSpPr>
        <p:sp>
          <p:nvSpPr>
            <p:cNvPr id="553" name=""/>
            <p:cNvSpPr/>
            <p:nvPr/>
          </p:nvSpPr>
          <p:spPr>
            <a:xfrm>
              <a:off x="611280" y="5229360"/>
              <a:ext cx="3095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1403280" y="400536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2484360" y="4005360"/>
              <a:ext cx="0" cy="165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971640" y="518652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835280" y="518652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059280" y="5187960"/>
              <a:ext cx="7128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908000" y="3386160"/>
              <a:ext cx="71640" cy="71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0" bIns="36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973440" y="4051440"/>
              <a:ext cx="41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29080" y="4221000"/>
              <a:ext cx="419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-1" strike="noStrike">
                  <a:solidFill>
                    <a:srgbClr val="000000"/>
                  </a:solidFill>
                  <a:latin typeface="Times New Roman"/>
                </a:rPr>
                <a:t>l</a:t>
              </a: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11280" y="522936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1692360" y="530208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987640" y="53020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692360" y="306864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3708360" y="2276640"/>
            <a:ext cx="5041800" cy="29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如图，假设过同一条直线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三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可以作一个圆，设这个圆的圆心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那么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既在线段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垂直平分线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，又在线段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垂直平分线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上，即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交点，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⊥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这与我们以前学过的“过一点有且只有一条直线与已知直线垂直”相矛盾，所以过同一条直线上的三点不能作圆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"/>
          <p:cNvSpPr/>
          <p:nvPr/>
        </p:nvSpPr>
        <p:spPr>
          <a:xfrm>
            <a:off x="539640" y="1590840"/>
            <a:ext cx="81360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假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命题的结论不成立，然后由此经过推理得出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矛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常与公理、定理、定义或已知条件相矛盾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由矛盾判定假设不正确，从而得到原命题成立，这种方法叫做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反证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3132000" y="765000"/>
            <a:ext cx="3238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什么叫反证法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/>
          <p:nvPr/>
        </p:nvSpPr>
        <p:spPr>
          <a:xfrm>
            <a:off x="611280" y="68256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反证法常用于解决用直接证法不易证明或不能证明的命题，主要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474920" y="2131920"/>
            <a:ext cx="6697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命题的结论是否定型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命题的结论是无限型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(3)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命题的结论是“至多”或“至少”型的</a:t>
            </a:r>
            <a:r>
              <a:rPr b="1" lang="zh-CN" sz="2800" spc="-1" strike="noStrike">
                <a:solidFill>
                  <a:srgbClr val="ff66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6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366840" y="4395960"/>
            <a:ext cx="1655640" cy="1655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68360" y="333360"/>
            <a:ext cx="691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思考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任意四个点是不是可以作一个圆？请举例说明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260360" y="132552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  </a:t>
            </a:r>
            <a:r>
              <a:rPr b="1" lang="zh-CN" sz="2800" spc="-1" strike="noStrike">
                <a:solidFill>
                  <a:srgbClr val="ff0000"/>
                </a:solidFill>
                <a:latin typeface="华文行楷"/>
                <a:ea typeface="华文行楷"/>
              </a:rPr>
              <a:t>不一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819440"/>
            <a:ext cx="53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点在一条直线上不能作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31640" y="31417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四点中任意三点不在一条直线可能作圆也可能作不出一个圆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25320" y="4654440"/>
            <a:ext cx="1152720" cy="1152720"/>
          </a:xfrm>
          <a:prstGeom prst="rect">
            <a:avLst/>
          </a:pr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250920" y="43387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1763640" y="43513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77960" y="5705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95200" y="56912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454720" y="4908600"/>
            <a:ext cx="1433520" cy="996840"/>
          </a:xfrm>
          <a:prstGeom prst="parallelogram">
            <a:avLst>
              <a:gd name="adj" fmla="val 35985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075280" y="4346640"/>
            <a:ext cx="1870200" cy="1747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580000" y="4653000"/>
            <a:ext cx="3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804000" y="4581360"/>
            <a:ext cx="3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6443640" y="5950080"/>
            <a:ext cx="3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148360" y="5877000"/>
            <a:ext cx="37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667640" y="4073400"/>
            <a:ext cx="1320840" cy="1776600"/>
          </a:xfrm>
          <a:custGeom>
            <a:avLst/>
            <a:gdLst/>
            <a:ahLst/>
            <a:rect l="l" t="t" r="r" b="b"/>
            <a:pathLst>
              <a:path w="832" h="1119">
                <a:moveTo>
                  <a:pt x="832" y="494"/>
                </a:moveTo>
                <a:lnTo>
                  <a:pt x="623" y="1119"/>
                </a:lnTo>
                <a:lnTo>
                  <a:pt x="130" y="1117"/>
                </a:lnTo>
                <a:lnTo>
                  <a:pt x="0" y="0"/>
                </a:lnTo>
                <a:lnTo>
                  <a:pt x="832" y="494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rot="6663000">
            <a:off x="7463880" y="4379760"/>
            <a:ext cx="1584360" cy="1584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308720" y="386064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962920" y="45529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8545680" y="5776920"/>
            <a:ext cx="43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564320" y="579132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110040" y="4414680"/>
            <a:ext cx="1114200" cy="1413000"/>
          </a:xfrm>
          <a:custGeom>
            <a:avLst/>
            <a:gdLst/>
            <a:ahLst/>
            <a:rect l="l" t="t" r="r" b="b"/>
            <a:pathLst>
              <a:path w="702" h="890">
                <a:moveTo>
                  <a:pt x="702" y="265"/>
                </a:moveTo>
                <a:lnTo>
                  <a:pt x="493" y="890"/>
                </a:lnTo>
                <a:lnTo>
                  <a:pt x="0" y="888"/>
                </a:lnTo>
                <a:lnTo>
                  <a:pt x="82" y="0"/>
                </a:lnTo>
                <a:lnTo>
                  <a:pt x="702" y="265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rot="6663000">
            <a:off x="2699640" y="4357440"/>
            <a:ext cx="1584360" cy="1584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987640" y="402588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199040" y="45306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781440" y="57546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800440" y="5769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95280" y="246708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三点在同一直线上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另一点不在这条直线上不能作圆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07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2" dur="2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1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622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"/>
          <p:cNvGrpSpPr/>
          <p:nvPr/>
        </p:nvGrpSpPr>
        <p:grpSpPr>
          <a:xfrm>
            <a:off x="611280" y="907920"/>
            <a:ext cx="8137440" cy="3816360"/>
            <a:chOff x="611280" y="907920"/>
            <a:chExt cx="8137440" cy="3816360"/>
          </a:xfrm>
        </p:grpSpPr>
        <p:sp>
          <p:nvSpPr>
            <p:cNvPr id="299" name=""/>
            <p:cNvSpPr/>
            <p:nvPr/>
          </p:nvSpPr>
          <p:spPr>
            <a:xfrm>
              <a:off x="611280" y="907920"/>
              <a:ext cx="8137440" cy="3816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11280" y="907920"/>
              <a:ext cx="8137440" cy="444600"/>
            </a:xfrm>
            <a:prstGeom prst="rect">
              <a:avLst/>
            </a:prstGeom>
            <a:gradFill rotWithShape="0">
              <a:gsLst>
                <a:gs pos="0">
                  <a:srgbClr val="7e9ce8"/>
                </a:gs>
                <a:gs pos="100000">
                  <a:srgbClr val="00ccff"/>
                </a:gs>
              </a:gsLst>
              <a:lin ang="10800000"/>
            </a:gradFill>
            <a:ln w="0">
              <a:noFill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900000" y="1557360"/>
            <a:ext cx="41767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国射击运动员在奥运会上屡获金牌，为我国赢得荣誉，右图是射击靶的示意图，它是由许多同心圆（圆心相同，半径不等的圆）构成的，你知道击中靶上不同位置的成绩是如何计算的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826920" y="333360"/>
            <a:ext cx="1008000" cy="773280"/>
            <a:chOff x="826920" y="333360"/>
            <a:chExt cx="1008000" cy="773280"/>
          </a:xfrm>
        </p:grpSpPr>
        <p:sp>
          <p:nvSpPr>
            <p:cNvPr id="303" name=""/>
            <p:cNvSpPr/>
            <p:nvPr/>
          </p:nvSpPr>
          <p:spPr>
            <a:xfrm>
              <a:off x="826920" y="542880"/>
              <a:ext cx="1008000" cy="360360"/>
            </a:xfrm>
            <a:custGeom>
              <a:avLst/>
              <a:gdLst/>
              <a:ahLst/>
              <a:rect l="l" t="t" r="r" b="b"/>
              <a:pathLst>
                <a:path w="942" h="393">
                  <a:moveTo>
                    <a:pt x="127" y="277"/>
                  </a:moveTo>
                  <a:cubicBezTo>
                    <a:pt x="100" y="272"/>
                    <a:pt x="73" y="280"/>
                    <a:pt x="46" y="280"/>
                  </a:cubicBezTo>
                  <a:cubicBezTo>
                    <a:pt x="38" y="279"/>
                    <a:pt x="31" y="279"/>
                    <a:pt x="22" y="281"/>
                  </a:cubicBezTo>
                  <a:cubicBezTo>
                    <a:pt x="18" y="281"/>
                    <a:pt x="15" y="283"/>
                    <a:pt x="11" y="283"/>
                  </a:cubicBezTo>
                  <a:cubicBezTo>
                    <a:pt x="7" y="283"/>
                    <a:pt x="0" y="286"/>
                    <a:pt x="2" y="284"/>
                  </a:cubicBezTo>
                  <a:cubicBezTo>
                    <a:pt x="22" y="276"/>
                    <a:pt x="41" y="270"/>
                    <a:pt x="61" y="263"/>
                  </a:cubicBezTo>
                  <a:cubicBezTo>
                    <a:pt x="76" y="261"/>
                    <a:pt x="90" y="258"/>
                    <a:pt x="105" y="255"/>
                  </a:cubicBezTo>
                  <a:cubicBezTo>
                    <a:pt x="108" y="253"/>
                    <a:pt x="114" y="253"/>
                    <a:pt x="115" y="249"/>
                  </a:cubicBezTo>
                  <a:cubicBezTo>
                    <a:pt x="116" y="246"/>
                    <a:pt x="111" y="249"/>
                    <a:pt x="108" y="248"/>
                  </a:cubicBezTo>
                  <a:cubicBezTo>
                    <a:pt x="106" y="246"/>
                    <a:pt x="105" y="245"/>
                    <a:pt x="102" y="244"/>
                  </a:cubicBezTo>
                  <a:cubicBezTo>
                    <a:pt x="86" y="237"/>
                    <a:pt x="65" y="236"/>
                    <a:pt x="48" y="238"/>
                  </a:cubicBezTo>
                  <a:cubicBezTo>
                    <a:pt x="41" y="238"/>
                    <a:pt x="35" y="238"/>
                    <a:pt x="28" y="237"/>
                  </a:cubicBezTo>
                  <a:cubicBezTo>
                    <a:pt x="24" y="237"/>
                    <a:pt x="12" y="239"/>
                    <a:pt x="15" y="236"/>
                  </a:cubicBezTo>
                  <a:cubicBezTo>
                    <a:pt x="16" y="234"/>
                    <a:pt x="28" y="234"/>
                    <a:pt x="31" y="234"/>
                  </a:cubicBezTo>
                  <a:cubicBezTo>
                    <a:pt x="52" y="232"/>
                    <a:pt x="73" y="226"/>
                    <a:pt x="94" y="228"/>
                  </a:cubicBezTo>
                  <a:cubicBezTo>
                    <a:pt x="94" y="228"/>
                    <a:pt x="109" y="227"/>
                    <a:pt x="113" y="226"/>
                  </a:cubicBezTo>
                  <a:cubicBezTo>
                    <a:pt x="117" y="226"/>
                    <a:pt x="125" y="226"/>
                    <a:pt x="125" y="226"/>
                  </a:cubicBezTo>
                  <a:cubicBezTo>
                    <a:pt x="119" y="219"/>
                    <a:pt x="116" y="218"/>
                    <a:pt x="107" y="218"/>
                  </a:cubicBezTo>
                  <a:cubicBezTo>
                    <a:pt x="100" y="213"/>
                    <a:pt x="83" y="209"/>
                    <a:pt x="73" y="210"/>
                  </a:cubicBezTo>
                  <a:cubicBezTo>
                    <a:pt x="54" y="202"/>
                    <a:pt x="63" y="203"/>
                    <a:pt x="45" y="204"/>
                  </a:cubicBezTo>
                  <a:cubicBezTo>
                    <a:pt x="41" y="205"/>
                    <a:pt x="54" y="202"/>
                    <a:pt x="59" y="201"/>
                  </a:cubicBezTo>
                  <a:cubicBezTo>
                    <a:pt x="66" y="199"/>
                    <a:pt x="75" y="200"/>
                    <a:pt x="82" y="198"/>
                  </a:cubicBezTo>
                  <a:cubicBezTo>
                    <a:pt x="109" y="192"/>
                    <a:pt x="134" y="191"/>
                    <a:pt x="161" y="187"/>
                  </a:cubicBezTo>
                  <a:cubicBezTo>
                    <a:pt x="170" y="179"/>
                    <a:pt x="160" y="179"/>
                    <a:pt x="153" y="177"/>
                  </a:cubicBezTo>
                  <a:cubicBezTo>
                    <a:pt x="149" y="173"/>
                    <a:pt x="135" y="170"/>
                    <a:pt x="135" y="170"/>
                  </a:cubicBezTo>
                  <a:cubicBezTo>
                    <a:pt x="129" y="163"/>
                    <a:pt x="121" y="159"/>
                    <a:pt x="114" y="155"/>
                  </a:cubicBezTo>
                  <a:cubicBezTo>
                    <a:pt x="126" y="148"/>
                    <a:pt x="138" y="145"/>
                    <a:pt x="150" y="138"/>
                  </a:cubicBezTo>
                  <a:cubicBezTo>
                    <a:pt x="160" y="134"/>
                    <a:pt x="170" y="123"/>
                    <a:pt x="180" y="119"/>
                  </a:cubicBezTo>
                  <a:cubicBezTo>
                    <a:pt x="188" y="116"/>
                    <a:pt x="204" y="101"/>
                    <a:pt x="212" y="95"/>
                  </a:cubicBezTo>
                  <a:cubicBezTo>
                    <a:pt x="234" y="76"/>
                    <a:pt x="269" y="64"/>
                    <a:pt x="293" y="48"/>
                  </a:cubicBezTo>
                  <a:cubicBezTo>
                    <a:pt x="325" y="39"/>
                    <a:pt x="348" y="24"/>
                    <a:pt x="380" y="18"/>
                  </a:cubicBezTo>
                  <a:cubicBezTo>
                    <a:pt x="420" y="9"/>
                    <a:pt x="464" y="9"/>
                    <a:pt x="503" y="4"/>
                  </a:cubicBezTo>
                  <a:cubicBezTo>
                    <a:pt x="530" y="0"/>
                    <a:pt x="537" y="5"/>
                    <a:pt x="564" y="3"/>
                  </a:cubicBezTo>
                  <a:cubicBezTo>
                    <a:pt x="570" y="2"/>
                    <a:pt x="584" y="4"/>
                    <a:pt x="590" y="4"/>
                  </a:cubicBezTo>
                  <a:cubicBezTo>
                    <a:pt x="595" y="5"/>
                    <a:pt x="620" y="13"/>
                    <a:pt x="620" y="13"/>
                  </a:cubicBezTo>
                  <a:cubicBezTo>
                    <a:pt x="635" y="21"/>
                    <a:pt x="646" y="23"/>
                    <a:pt x="659" y="25"/>
                  </a:cubicBezTo>
                  <a:cubicBezTo>
                    <a:pt x="666" y="27"/>
                    <a:pt x="680" y="37"/>
                    <a:pt x="680" y="37"/>
                  </a:cubicBezTo>
                  <a:cubicBezTo>
                    <a:pt x="683" y="39"/>
                    <a:pt x="691" y="41"/>
                    <a:pt x="701" y="46"/>
                  </a:cubicBezTo>
                  <a:cubicBezTo>
                    <a:pt x="711" y="51"/>
                    <a:pt x="721" y="59"/>
                    <a:pt x="740" y="69"/>
                  </a:cubicBezTo>
                  <a:cubicBezTo>
                    <a:pt x="741" y="90"/>
                    <a:pt x="807" y="99"/>
                    <a:pt x="818" y="109"/>
                  </a:cubicBezTo>
                  <a:cubicBezTo>
                    <a:pt x="855" y="141"/>
                    <a:pt x="870" y="129"/>
                    <a:pt x="903" y="167"/>
                  </a:cubicBezTo>
                  <a:cubicBezTo>
                    <a:pt x="914" y="180"/>
                    <a:pt x="927" y="192"/>
                    <a:pt x="938" y="204"/>
                  </a:cubicBezTo>
                  <a:cubicBezTo>
                    <a:pt x="940" y="208"/>
                    <a:pt x="942" y="209"/>
                    <a:pt x="941" y="213"/>
                  </a:cubicBezTo>
                  <a:cubicBezTo>
                    <a:pt x="941" y="215"/>
                    <a:pt x="939" y="228"/>
                    <a:pt x="936" y="228"/>
                  </a:cubicBezTo>
                  <a:cubicBezTo>
                    <a:pt x="925" y="235"/>
                    <a:pt x="927" y="229"/>
                    <a:pt x="919" y="238"/>
                  </a:cubicBezTo>
                  <a:cubicBezTo>
                    <a:pt x="915" y="243"/>
                    <a:pt x="905" y="250"/>
                    <a:pt x="905" y="250"/>
                  </a:cubicBezTo>
                  <a:cubicBezTo>
                    <a:pt x="887" y="255"/>
                    <a:pt x="869" y="254"/>
                    <a:pt x="851" y="246"/>
                  </a:cubicBezTo>
                  <a:cubicBezTo>
                    <a:pt x="843" y="243"/>
                    <a:pt x="819" y="248"/>
                    <a:pt x="810" y="246"/>
                  </a:cubicBezTo>
                  <a:cubicBezTo>
                    <a:pt x="778" y="273"/>
                    <a:pt x="742" y="285"/>
                    <a:pt x="701" y="304"/>
                  </a:cubicBezTo>
                  <a:cubicBezTo>
                    <a:pt x="667" y="318"/>
                    <a:pt x="657" y="342"/>
                    <a:pt x="605" y="354"/>
                  </a:cubicBezTo>
                  <a:cubicBezTo>
                    <a:pt x="576" y="366"/>
                    <a:pt x="551" y="372"/>
                    <a:pt x="529" y="377"/>
                  </a:cubicBezTo>
                  <a:cubicBezTo>
                    <a:pt x="507" y="382"/>
                    <a:pt x="494" y="384"/>
                    <a:pt x="475" y="386"/>
                  </a:cubicBezTo>
                  <a:cubicBezTo>
                    <a:pt x="456" y="388"/>
                    <a:pt x="445" y="391"/>
                    <a:pt x="415" y="389"/>
                  </a:cubicBezTo>
                  <a:cubicBezTo>
                    <a:pt x="392" y="393"/>
                    <a:pt x="316" y="381"/>
                    <a:pt x="295" y="372"/>
                  </a:cubicBezTo>
                  <a:cubicBezTo>
                    <a:pt x="284" y="367"/>
                    <a:pt x="290" y="370"/>
                    <a:pt x="273" y="366"/>
                  </a:cubicBezTo>
                  <a:cubicBezTo>
                    <a:pt x="269" y="365"/>
                    <a:pt x="259" y="363"/>
                    <a:pt x="259" y="363"/>
                  </a:cubicBezTo>
                  <a:cubicBezTo>
                    <a:pt x="249" y="356"/>
                    <a:pt x="227" y="343"/>
                    <a:pt x="215" y="340"/>
                  </a:cubicBezTo>
                  <a:cubicBezTo>
                    <a:pt x="198" y="320"/>
                    <a:pt x="167" y="313"/>
                    <a:pt x="148" y="296"/>
                  </a:cubicBezTo>
                  <a:cubicBezTo>
                    <a:pt x="141" y="290"/>
                    <a:pt x="135" y="280"/>
                    <a:pt x="127" y="277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33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118880" y="542880"/>
              <a:ext cx="432000" cy="358920"/>
            </a:xfrm>
            <a:prstGeom prst="ellipse">
              <a:avLst/>
            </a:prstGeom>
            <a:blipFill rotWithShape="0">
              <a:blip r:embed="rId1"/>
              <a:srcRect/>
              <a:stretch/>
            </a:blipFill>
            <a:ln w="2844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301400" y="681120"/>
              <a:ext cx="73080" cy="73080"/>
            </a:xfrm>
            <a:prstGeom prst="ellipse">
              <a:avLst/>
            </a:prstGeom>
            <a:solidFill>
              <a:srgbClr val="333300"/>
            </a:solidFill>
            <a:ln w="9360">
              <a:solidFill>
                <a:srgbClr val="33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6" name=""/>
            <p:cNvGrpSpPr/>
            <p:nvPr/>
          </p:nvGrpSpPr>
          <p:grpSpPr>
            <a:xfrm>
              <a:off x="991800" y="333360"/>
              <a:ext cx="702360" cy="208080"/>
              <a:chOff x="991800" y="333360"/>
              <a:chExt cx="702360" cy="208080"/>
            </a:xfrm>
          </p:grpSpPr>
          <p:sp>
            <p:nvSpPr>
              <p:cNvPr id="307" name=""/>
              <p:cNvSpPr/>
              <p:nvPr/>
            </p:nvSpPr>
            <p:spPr>
              <a:xfrm>
                <a:off x="1320480" y="333360"/>
                <a:ext cx="59760" cy="118080"/>
              </a:xfrm>
              <a:prstGeom prst="flowChartMerge">
                <a:avLst/>
              </a:prstGeom>
              <a:solidFill>
                <a:srgbClr val="330066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900000">
                <a:off x="1467360" y="348480"/>
                <a:ext cx="59760" cy="118080"/>
              </a:xfrm>
              <a:prstGeom prst="flowChartMerge">
                <a:avLst/>
              </a:prstGeom>
              <a:solidFill>
                <a:srgbClr val="330066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1200000">
                <a:off x="1613160" y="391320"/>
                <a:ext cx="62280" cy="118080"/>
              </a:xfrm>
              <a:prstGeom prst="flowChartMerge">
                <a:avLst/>
              </a:prstGeom>
              <a:solidFill>
                <a:srgbClr val="330066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rot="20700000">
                <a:off x="1159920" y="360000"/>
                <a:ext cx="59760" cy="118440"/>
              </a:xfrm>
              <a:prstGeom prst="flowChartMerge">
                <a:avLst/>
              </a:prstGeom>
              <a:solidFill>
                <a:srgbClr val="330066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rot="19800000">
                <a:off x="1017000" y="416160"/>
                <a:ext cx="59760" cy="118080"/>
              </a:xfrm>
              <a:prstGeom prst="flowChartMerge">
                <a:avLst/>
              </a:prstGeom>
              <a:solidFill>
                <a:srgbClr val="330066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1005480" y="900000"/>
              <a:ext cx="696240" cy="206640"/>
              <a:chOff x="1005480" y="900000"/>
              <a:chExt cx="696240" cy="206640"/>
            </a:xfrm>
          </p:grpSpPr>
          <p:sp>
            <p:nvSpPr>
              <p:cNvPr id="313" name=""/>
              <p:cNvSpPr/>
              <p:nvPr/>
            </p:nvSpPr>
            <p:spPr>
              <a:xfrm rot="10800000">
                <a:off x="1316880" y="989280"/>
                <a:ext cx="59040" cy="117360"/>
              </a:xfrm>
              <a:prstGeom prst="flowChartMerge">
                <a:avLst/>
              </a:prstGeom>
              <a:solidFill>
                <a:srgbClr val="330066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11700000">
                <a:off x="1171080" y="973800"/>
                <a:ext cx="59040" cy="117360"/>
              </a:xfrm>
              <a:prstGeom prst="flowChartMerge">
                <a:avLst/>
              </a:prstGeom>
              <a:solidFill>
                <a:srgbClr val="330066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12000000">
                <a:off x="1023480" y="931320"/>
                <a:ext cx="61920" cy="117360"/>
              </a:xfrm>
              <a:prstGeom prst="flowChartMerge">
                <a:avLst/>
              </a:prstGeom>
              <a:solidFill>
                <a:srgbClr val="330066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9900000">
                <a:off x="1475280" y="961920"/>
                <a:ext cx="59040" cy="117720"/>
              </a:xfrm>
              <a:prstGeom prst="flowChartMerge">
                <a:avLst/>
              </a:prstGeom>
              <a:solidFill>
                <a:srgbClr val="330066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rot="9000000">
                <a:off x="1617120" y="906480"/>
                <a:ext cx="59040" cy="117360"/>
              </a:xfrm>
              <a:prstGeom prst="flowChartMerge">
                <a:avLst/>
              </a:prstGeom>
              <a:solidFill>
                <a:srgbClr val="330066"/>
              </a:solidFill>
              <a:ln w="9360">
                <a:solidFill>
                  <a:srgbClr val="33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880" bIns="118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8" name=""/>
          <p:cNvSpPr txBox="1"/>
          <p:nvPr/>
        </p:nvSpPr>
        <p:spPr>
          <a:xfrm>
            <a:off x="1978200" y="511200"/>
            <a:ext cx="1143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观 察</a:t>
            </a:r>
            <a:endParaRPr b="0" lang="en-US" sz="1800" spc="1" strike="noStrike">
              <a:ln w="9360">
                <a:solidFill>
                  <a:srgbClr val="ff33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319" name=""/>
          <p:cNvSpPr/>
          <p:nvPr/>
        </p:nvSpPr>
        <p:spPr>
          <a:xfrm>
            <a:off x="5076720" y="2781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5291280" y="1484280"/>
            <a:ext cx="3168360" cy="31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6515280" y="25272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11280" y="375912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问题２：设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半径为 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说出来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与圆心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距离与半径的关系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012000" y="1446120"/>
            <a:ext cx="1871640" cy="1871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950160" y="1979640"/>
            <a:ext cx="318960" cy="404640"/>
          </a:xfrm>
          <a:custGeom>
            <a:avLst/>
            <a:gdLst/>
            <a:ahLst/>
            <a:rect l="l" t="t" r="r" b="b"/>
            <a:pathLst>
              <a:path w="201" h="255">
                <a:moveTo>
                  <a:pt x="0" y="255"/>
                </a:moveTo>
                <a:lnTo>
                  <a:pt x="20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352000" y="22384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88000" y="22795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77080" y="16621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524720" y="2990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236000" y="1951200"/>
            <a:ext cx="7272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388360" y="216684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919920" y="23544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945480" y="2389320"/>
            <a:ext cx="677520" cy="608040"/>
          </a:xfrm>
          <a:custGeom>
            <a:avLst/>
            <a:gdLst/>
            <a:ahLst/>
            <a:rect l="l" t="t" r="r" b="b"/>
            <a:pathLst>
              <a:path w="427" h="383">
                <a:moveTo>
                  <a:pt x="0" y="0"/>
                </a:moveTo>
                <a:lnTo>
                  <a:pt x="427" y="383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942160" y="5141880"/>
            <a:ext cx="179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OC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&gt; 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618320" y="297180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954840" y="2208240"/>
            <a:ext cx="1471680" cy="181080"/>
          </a:xfrm>
          <a:custGeom>
            <a:avLst/>
            <a:gdLst/>
            <a:ahLst/>
            <a:rect l="l" t="t" r="r" b="b"/>
            <a:pathLst>
              <a:path w="927" h="114">
                <a:moveTo>
                  <a:pt x="0" y="114"/>
                </a:moveTo>
                <a:lnTo>
                  <a:pt x="927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39640" y="884160"/>
            <a:ext cx="74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题１：观察图中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与圆的位置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2692080" y="2900520"/>
            <a:ext cx="14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点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圆外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16040" y="160344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点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圆内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516040" y="2251080"/>
            <a:ext cx="291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点</a:t>
            </a:r>
            <a:r>
              <a:rPr b="1" i="1" lang="zh-CN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在圆上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124000" y="5094360"/>
            <a:ext cx="165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OA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&lt; 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r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070520" y="5141880"/>
            <a:ext cx="165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OB = r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675480" y="2382840"/>
            <a:ext cx="272880" cy="909720"/>
          </a:xfrm>
          <a:custGeom>
            <a:avLst/>
            <a:gdLst/>
            <a:ahLst/>
            <a:rect l="l" t="t" r="r" b="b"/>
            <a:pathLst>
              <a:path w="172" h="573">
                <a:moveTo>
                  <a:pt x="172" y="0"/>
                </a:moveTo>
                <a:lnTo>
                  <a:pt x="0" y="573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59280" y="189000"/>
            <a:ext cx="28796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问 题 探 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7091280" y="4210200"/>
            <a:ext cx="292320" cy="371160"/>
          </a:xfrm>
          <a:custGeom>
            <a:avLst/>
            <a:gdLst/>
            <a:ahLst/>
            <a:rect l="l" t="t" r="r" b="b"/>
            <a:pathLst>
              <a:path w="184" h="234">
                <a:moveTo>
                  <a:pt x="0" y="234"/>
                </a:moveTo>
                <a:lnTo>
                  <a:pt x="184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332000" y="1531800"/>
            <a:ext cx="72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设⊙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半径为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点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到圆心的距离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OP = d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则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1763640" y="2708280"/>
            <a:ext cx="4248360" cy="520560"/>
            <a:chOff x="1763640" y="2708280"/>
            <a:chExt cx="4248360" cy="520560"/>
          </a:xfrm>
        </p:grpSpPr>
        <p:sp>
          <p:nvSpPr>
            <p:cNvPr id="347" name=""/>
            <p:cNvSpPr/>
            <p:nvPr/>
          </p:nvSpPr>
          <p:spPr>
            <a:xfrm>
              <a:off x="1763640" y="2708280"/>
              <a:ext cx="4248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点</a:t>
              </a:r>
              <a:r>
                <a:rPr b="1" i="1" lang="zh-CN" sz="2400" spc="-1" strike="noStrike">
                  <a:solidFill>
                    <a:srgbClr val="0000ff"/>
                  </a:solidFill>
                  <a:latin typeface="Times New Roman"/>
                </a:rPr>
                <a:t>P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在圆上             </a:t>
              </a:r>
              <a:r>
                <a:rPr b="1" i="1" lang="zh-CN" sz="2800" spc="-1" strike="noStrike">
                  <a:solidFill>
                    <a:srgbClr val="0000ff"/>
                  </a:solidFill>
                  <a:latin typeface="Times New Roman"/>
                </a:rPr>
                <a:t>d 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= </a:t>
              </a:r>
              <a:r>
                <a:rPr b="1" i="1" lang="zh-CN" sz="28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r>
                <a:rPr b="1" lang="zh-CN" sz="2800" spc="-1" strike="noStrike">
                  <a:solidFill>
                    <a:srgbClr val="0000ff"/>
                  </a:solidFill>
                  <a:latin typeface="Times New Roman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3419640" y="2779560"/>
                  <a:ext cx="807840" cy="433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⇔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9" name=""/>
          <p:cNvGrpSpPr/>
          <p:nvPr/>
        </p:nvGrpSpPr>
        <p:grpSpPr>
          <a:xfrm>
            <a:off x="1763640" y="3259080"/>
            <a:ext cx="4248360" cy="530280"/>
            <a:chOff x="1763640" y="3259080"/>
            <a:chExt cx="4248360" cy="530280"/>
          </a:xfrm>
        </p:grpSpPr>
        <p:sp>
          <p:nvSpPr>
            <p:cNvPr id="350" name=""/>
            <p:cNvSpPr/>
            <p:nvPr/>
          </p:nvSpPr>
          <p:spPr>
            <a:xfrm>
              <a:off x="1763640" y="3259080"/>
              <a:ext cx="4248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点</a:t>
              </a:r>
              <a:r>
                <a:rPr b="1" i="1" lang="zh-CN" sz="2400" spc="-1" strike="noStrike">
                  <a:solidFill>
                    <a:srgbClr val="0000ff"/>
                  </a:solidFill>
                  <a:latin typeface="Times New Roman"/>
                </a:rPr>
                <a:t>P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在圆外             </a:t>
              </a:r>
              <a:r>
                <a:rPr b="1" i="1" lang="zh-CN" sz="2400" spc="-1" strike="noStrike">
                  <a:solidFill>
                    <a:srgbClr val="0000ff"/>
                  </a:solidFill>
                  <a:latin typeface="Times New Roman"/>
                </a:rPr>
                <a:t>d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＞ </a:t>
              </a:r>
              <a:r>
                <a:rPr b="1" i="1" lang="zh-CN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  .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1" name=""/>
                <p:cNvSpPr txBox="1"/>
                <p:nvPr/>
              </p:nvSpPr>
              <p:spPr>
                <a:xfrm>
                  <a:off x="3419640" y="3270240"/>
                  <a:ext cx="879480" cy="519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⇔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52" name=""/>
          <p:cNvGrpSpPr/>
          <p:nvPr/>
        </p:nvGrpSpPr>
        <p:grpSpPr>
          <a:xfrm>
            <a:off x="1763640" y="2131920"/>
            <a:ext cx="4464000" cy="505080"/>
            <a:chOff x="1763640" y="2131920"/>
            <a:chExt cx="4464000" cy="505080"/>
          </a:xfrm>
        </p:grpSpPr>
        <p:sp>
          <p:nvSpPr>
            <p:cNvPr id="353" name=""/>
            <p:cNvSpPr/>
            <p:nvPr/>
          </p:nvSpPr>
          <p:spPr>
            <a:xfrm>
              <a:off x="1763640" y="2131920"/>
              <a:ext cx="446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点</a:t>
              </a:r>
              <a:r>
                <a:rPr b="1" i="1" lang="zh-CN" sz="2400" spc="-1" strike="noStrike">
                  <a:solidFill>
                    <a:srgbClr val="0000ff"/>
                  </a:solidFill>
                  <a:latin typeface="Times New Roman"/>
                </a:rPr>
                <a:t>P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在圆内             </a:t>
              </a:r>
              <a:r>
                <a:rPr b="1" i="1" lang="zh-CN" sz="2400" spc="-1" strike="noStrike">
                  <a:solidFill>
                    <a:srgbClr val="0000ff"/>
                  </a:solidFill>
                  <a:latin typeface="Times New Roman"/>
                </a:rPr>
                <a:t>d </a:t>
              </a:r>
              <a:r>
                <a:rPr b="1" lang="zh-CN" sz="2400" spc="-1" strike="noStrike">
                  <a:solidFill>
                    <a:srgbClr val="0000ff"/>
                  </a:solidFill>
                  <a:latin typeface="Times New Roman"/>
                </a:rPr>
                <a:t>＜ </a:t>
              </a:r>
              <a:r>
                <a:rPr b="1" i="1" lang="zh-CN" sz="2400" spc="-1" strike="noStrike">
                  <a:solidFill>
                    <a:srgbClr val="0000ff"/>
                  </a:solidFill>
                  <a:latin typeface="Times New Roman"/>
                </a:rPr>
                <a:t>r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 </a:t>
              </a:r>
              <a:r>
                <a:rPr b="1" lang="zh-CN" sz="2400" spc="-1" strike="noStrike">
                  <a:solidFill>
                    <a:srgbClr val="0000ff"/>
                  </a:solidFill>
                  <a:latin typeface="Arial"/>
                </a:rPr>
                <a:t>；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54" name=""/>
            <p:cNvGraphicFramePr/>
            <p:nvPr/>
          </p:nvGraphicFramePr>
          <p:xfrm>
            <a:off x="3440160" y="2179800"/>
            <a:ext cx="915840" cy="4572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440160" y="2179800"/>
                      <a:ext cx="915840" cy="457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356" name=""/>
          <p:cNvGrpSpPr/>
          <p:nvPr/>
        </p:nvGrpSpPr>
        <p:grpSpPr>
          <a:xfrm>
            <a:off x="1042920" y="3860640"/>
            <a:ext cx="3241440" cy="2592720"/>
            <a:chOff x="1042920" y="3860640"/>
            <a:chExt cx="3241440" cy="2592720"/>
          </a:xfrm>
        </p:grpSpPr>
        <p:sp>
          <p:nvSpPr>
            <p:cNvPr id="357" name=""/>
            <p:cNvSpPr/>
            <p:nvPr/>
          </p:nvSpPr>
          <p:spPr>
            <a:xfrm>
              <a:off x="1042920" y="3860640"/>
              <a:ext cx="3241440" cy="2592720"/>
            </a:xfrm>
            <a:prstGeom prst="rect">
              <a:avLst/>
            </a:prstGeom>
            <a:solidFill>
              <a:srgbClr val="ffff66"/>
            </a:solidFill>
            <a:ln w="5724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符号      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作“等价于”，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表示从符号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的左端可以得到右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端从右端也可以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宋体"/>
                </a:rPr>
                <a:t>到左端．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58" name=""/>
                <p:cNvSpPr txBox="1"/>
                <p:nvPr/>
              </p:nvSpPr>
              <p:spPr>
                <a:xfrm>
                  <a:off x="2400120" y="4255920"/>
                  <a:ext cx="81216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⇔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59" name=""/>
                <p:cNvSpPr txBox="1"/>
                <p:nvPr/>
              </p:nvSpPr>
              <p:spPr>
                <a:xfrm>
                  <a:off x="2896920" y="4971960"/>
                  <a:ext cx="1010160" cy="3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⇔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360" name=""/>
            <p:cNvSpPr/>
            <p:nvPr/>
          </p:nvSpPr>
          <p:spPr>
            <a:xfrm>
              <a:off x="2561400" y="4071960"/>
              <a:ext cx="204120" cy="139680"/>
            </a:xfrm>
            <a:prstGeom prst="ellipse">
              <a:avLst/>
            </a:prstGeom>
            <a:solidFill>
              <a:srgbClr val="cc9900"/>
            </a:solidFill>
            <a:ln w="57240">
              <a:solidFill>
                <a:srgbClr val="ff0000"/>
              </a:solidFill>
              <a:miter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6516720" y="520380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4003560"/>
            <a:ext cx="1871640" cy="187164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Arial"/>
              </a:rPr>
              <a:t>·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6807240" y="4538520"/>
            <a:ext cx="318960" cy="405000"/>
          </a:xfrm>
          <a:custGeom>
            <a:avLst/>
            <a:gdLst/>
            <a:ahLst/>
            <a:rect l="l" t="t" r="r" b="b"/>
            <a:pathLst>
              <a:path w="201" h="255">
                <a:moveTo>
                  <a:pt x="0" y="255"/>
                </a:moveTo>
                <a:lnTo>
                  <a:pt x="201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443640" y="48369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588000" y="587052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91280" y="4508640"/>
            <a:ext cx="730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765840" y="49165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797520" y="4943520"/>
            <a:ext cx="9720" cy="923760"/>
          </a:xfrm>
          <a:custGeom>
            <a:avLst/>
            <a:gdLst/>
            <a:ahLst/>
            <a:rect l="l" t="t" r="r" b="b"/>
            <a:pathLst>
              <a:path w="6" h="582">
                <a:moveTo>
                  <a:pt x="6" y="0"/>
                </a:moveTo>
                <a:lnTo>
                  <a:pt x="0" y="582"/>
                </a:lnTo>
              </a:path>
            </a:pathLst>
          </a:custGeom>
          <a:noFill/>
          <a:ln w="2844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95280" y="476280"/>
            <a:ext cx="7705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问题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反过来，已知点到圆心的距离和圆的半径，能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判断点和圆的位置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7388280" y="3773160"/>
            <a:ext cx="36036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348680" y="4176720"/>
            <a:ext cx="72720" cy="712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816600" y="4292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091280" y="4508640"/>
            <a:ext cx="73080" cy="712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7091280" y="4508640"/>
            <a:ext cx="73080" cy="71280"/>
          </a:xfrm>
          <a:prstGeom prst="ellipse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7162920" y="383076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523280" y="33876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69 -0.00093 L 0.02743 -0.04723 E">
                                      <p:cBhvr>
                                        <p:cTn id="87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2743 -0.04792 L 0.06979 -0.11528 E">
                                      <p:cBhvr>
                                        <p:cTn id="108" dur="2000" fill="hold"/>
                                        <p:tgtEl>
                                          <p:spTgt spid="3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252360" y="981000"/>
            <a:ext cx="4680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3399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cc3399"/>
                </a:solidFill>
                <a:latin typeface="宋体"/>
              </a:rPr>
              <a:t>射击靶图上，有一组以靶心为圆心的大小不同的圆，他们把靶图由内到外分成几个区域，这些区域用由高到底的环数来表示，射击成绩用弹着点位置对应的环数来表示．弹着点与靶心的距离决定了它在哪个圆内，弹着点离靶心越近，它所在的区域就越靠内，对应的环数也就越高，射击的成绩越好</a:t>
            </a:r>
            <a:r>
              <a:rPr b="1" lang="zh-CN" sz="2400" spc="-1" strike="noStrike">
                <a:solidFill>
                  <a:srgbClr val="cc3399"/>
                </a:solidFill>
                <a:latin typeface="宋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68360" y="404640"/>
            <a:ext cx="819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隶书"/>
              </a:rPr>
              <a:t>你知道击中靶上不同位置的成绩是如何计算的吗 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4859280" y="1844640"/>
            <a:ext cx="3849840" cy="25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0" name=""/>
          <p:cNvGrpSpPr/>
          <p:nvPr/>
        </p:nvGrpSpPr>
        <p:grpSpPr>
          <a:xfrm>
            <a:off x="166680" y="0"/>
            <a:ext cx="5638680" cy="809640"/>
            <a:chOff x="166680" y="0"/>
            <a:chExt cx="5638680" cy="809640"/>
          </a:xfrm>
        </p:grpSpPr>
        <p:grpSp>
          <p:nvGrpSpPr>
            <p:cNvPr id="381" name=""/>
            <p:cNvGrpSpPr/>
            <p:nvPr/>
          </p:nvGrpSpPr>
          <p:grpSpPr>
            <a:xfrm>
              <a:off x="743040" y="0"/>
              <a:ext cx="3980880" cy="803520"/>
              <a:chOff x="743040" y="0"/>
              <a:chExt cx="3980880" cy="803520"/>
            </a:xfrm>
          </p:grpSpPr>
          <p:sp>
            <p:nvSpPr>
              <p:cNvPr id="382" name=""/>
              <p:cNvSpPr/>
              <p:nvPr/>
            </p:nvSpPr>
            <p:spPr>
              <a:xfrm>
                <a:off x="743040" y="160920"/>
                <a:ext cx="3980880" cy="642600"/>
              </a:xfrm>
              <a:prstGeom prst="rect">
                <a:avLst/>
              </a:prstGeom>
              <a:gradFill rotWithShape="0">
                <a:gsLst>
                  <a:gs pos="0">
                    <a:srgbClr val="ffcc99"/>
                  </a:gs>
                  <a:gs pos="100000">
                    <a:srgbClr val="ffffff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ff0000"/>
                    </a:solidFill>
                    <a:latin typeface="Times New Roman"/>
                    <a:ea typeface="黑体"/>
                  </a:rPr>
                  <a:t>点与圆的位置关系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3911400" y="0"/>
                <a:ext cx="185040" cy="641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84" name="" descr=""/>
            <p:cNvPicPr/>
            <p:nvPr/>
          </p:nvPicPr>
          <p:blipFill>
            <a:blip r:embed="rId1"/>
            <a:stretch/>
          </p:blipFill>
          <p:spPr>
            <a:xfrm>
              <a:off x="4738680" y="123840"/>
              <a:ext cx="1066680" cy="685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85" name="" descr="">
              <a:hlinkClick r:id="" action="ppaction://hlinkshowjump?jump=lastslide"/>
            </p:cNvPr>
            <p:cNvPicPr/>
            <p:nvPr/>
          </p:nvPicPr>
          <p:blipFill>
            <a:blip r:embed="rId2"/>
            <a:stretch/>
          </p:blipFill>
          <p:spPr>
            <a:xfrm>
              <a:off x="166680" y="263520"/>
              <a:ext cx="649440" cy="533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86" name=""/>
          <p:cNvGrpSpPr/>
          <p:nvPr/>
        </p:nvGrpSpPr>
        <p:grpSpPr>
          <a:xfrm>
            <a:off x="3986280" y="1447920"/>
            <a:ext cx="2698200" cy="2698200"/>
            <a:chOff x="3986280" y="1447920"/>
            <a:chExt cx="2698200" cy="2698200"/>
          </a:xfrm>
        </p:grpSpPr>
        <p:sp>
          <p:nvSpPr>
            <p:cNvPr id="387" name=""/>
            <p:cNvSpPr/>
            <p:nvPr/>
          </p:nvSpPr>
          <p:spPr>
            <a:xfrm>
              <a:off x="3986280" y="1447920"/>
              <a:ext cx="2698200" cy="2698200"/>
            </a:xfrm>
            <a:prstGeom prst="ellipse">
              <a:avLst/>
            </a:prstGeom>
            <a:noFill/>
            <a:ln w="22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263920" y="2709360"/>
              <a:ext cx="144720" cy="1447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4656240" y="947880"/>
            <a:ext cx="152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Arial"/>
              </a:rPr>
              <a:t>圆外的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711680" y="312408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圆内的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34320" y="1371600"/>
            <a:ext cx="1635120" cy="457200"/>
          </a:xfrm>
          <a:prstGeom prst="wedgeRectCallout">
            <a:avLst>
              <a:gd name="adj1" fmla="val -64078"/>
              <a:gd name="adj2" fmla="val 183680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圆上的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0920" y="393372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平面上的一个圆，把平面上的点分成三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圆上的点，圆内的点和圆外的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252360" y="4941720"/>
            <a:ext cx="73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圆的内部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可以看成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到圆心的距离小于半径的的点的集合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圆的外部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可以看成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971640" y="6222960"/>
            <a:ext cx="656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到圆心的距离大于半径的点的集合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80880" y="11430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思考：平面上的一个圆把平面上的点分成哪几部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915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：如图已知矩形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B=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D=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50920" y="0"/>
            <a:ext cx="2089080" cy="803160"/>
            <a:chOff x="250920" y="0"/>
            <a:chExt cx="2089080" cy="803160"/>
          </a:xfrm>
        </p:grpSpPr>
        <p:sp>
          <p:nvSpPr>
            <p:cNvPr id="398" name=""/>
            <p:cNvSpPr/>
            <p:nvPr/>
          </p:nvSpPr>
          <p:spPr>
            <a:xfrm>
              <a:off x="250920" y="160560"/>
              <a:ext cx="2089080" cy="642600"/>
            </a:xfrm>
            <a:prstGeom prst="rect">
              <a:avLst/>
            </a:prstGeom>
            <a:gradFill rotWithShape="0">
              <a:gsLst>
                <a:gs pos="0">
                  <a:srgbClr val="ffcc99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381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3300"/>
                  </a:solidFill>
                  <a:latin typeface="Times New Roman"/>
                  <a:ea typeface="黑体"/>
                </a:rPr>
                <a:t>典型例题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913400" y="0"/>
              <a:ext cx="13356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6746760" y="2762280"/>
            <a:ext cx="2092680" cy="1428840"/>
            <a:chOff x="6746760" y="2762280"/>
            <a:chExt cx="2092680" cy="1428840"/>
          </a:xfrm>
        </p:grpSpPr>
        <p:sp>
          <p:nvSpPr>
            <p:cNvPr id="401" name=""/>
            <p:cNvSpPr/>
            <p:nvPr/>
          </p:nvSpPr>
          <p:spPr>
            <a:xfrm>
              <a:off x="6746760" y="276228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8674200" y="279252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629560" y="391644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756480" y="3828960"/>
              <a:ext cx="165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3300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029360" y="2933640"/>
              <a:ext cx="1447920" cy="1067040"/>
            </a:xfrm>
            <a:prstGeom prst="rect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0" y="167652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以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圆心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为半径作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则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位置关系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676840" y="1523880"/>
            <a:ext cx="2800440" cy="2800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96840" y="2598840"/>
            <a:ext cx="49532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(B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在圆上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在圆外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在圆外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1240" y="3124080"/>
            <a:ext cx="644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以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圆心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为半径作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则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位置关系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14400" y="4191120"/>
            <a:ext cx="495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(B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在圆内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在圆上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在圆外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2440" y="478800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以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为圆心，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厘米为半径作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则点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圆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位置关系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914400" y="5810400"/>
            <a:ext cx="49528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(B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在圆内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D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在圆内，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C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在圆上</a:t>
            </a:r>
            <a:r>
              <a:rPr b="1" lang="zh-CN" sz="2800" spc="-1" strike="noStrike">
                <a:solidFill>
                  <a:srgbClr val="ff3300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00840" y="1863720"/>
            <a:ext cx="2130480" cy="213048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72280" y="1216080"/>
            <a:ext cx="3468600" cy="3468600"/>
          </a:xfrm>
          <a:prstGeom prst="ellipse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7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500"/>
                            </p:stCondLst>
                            <p:childTnLst>
                              <p:par>
                                <p:cTn id="18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1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2844720" y="2925720"/>
            <a:ext cx="2158920" cy="2158920"/>
          </a:xfrm>
          <a:prstGeom prst="ellipse">
            <a:avLst/>
          </a:prstGeom>
          <a:solidFill>
            <a:srgbClr val="0000ff"/>
          </a:solidFill>
          <a:ln w="284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219480" y="3286080"/>
            <a:ext cx="1440000" cy="14400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011480" y="36464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2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975200">
            <a:off x="3291840" y="35143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3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95280" y="1503360"/>
            <a:ext cx="7561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画出由所有到已知点的距离大于或等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并且小于或等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点组成的图形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897360" y="3976560"/>
            <a:ext cx="71280" cy="71640"/>
          </a:xfrm>
          <a:prstGeom prst="ellipse">
            <a:avLst/>
          </a:prstGeom>
          <a:solidFill>
            <a:srgbClr val="cc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3940200" y="4021200"/>
            <a:ext cx="719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rot="1800000">
            <a:off x="2901960" y="3746160"/>
            <a:ext cx="1101600" cy="1440"/>
          </a:xfrm>
          <a:custGeom>
            <a:avLst/>
            <a:gdLst/>
            <a:ahLst/>
            <a:rect l="l" t="t" r="r" b="b"/>
            <a:pathLst>
              <a:path w="694" h="1">
                <a:moveTo>
                  <a:pt x="694" y="1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665520" y="3976560"/>
            <a:ext cx="6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3419640" y="620640"/>
            <a:ext cx="158400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思考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6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34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47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1258920" y="2494080"/>
            <a:ext cx="5329080" cy="295092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395280" y="1125360"/>
            <a:ext cx="813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体育课上，小明和小雨的铅球成绩分别是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.4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.1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他们投出的铅球分别落在图中哪个区域内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4495320" y="3007440"/>
            <a:ext cx="1155600" cy="1823400"/>
            <a:chOff x="4495320" y="3007440"/>
            <a:chExt cx="1155600" cy="1823400"/>
          </a:xfrm>
        </p:grpSpPr>
        <p:sp>
          <p:nvSpPr>
            <p:cNvPr id="428" name="m16Arc 211"/>
            <p:cNvSpPr/>
            <p:nvPr/>
          </p:nvSpPr>
          <p:spPr>
            <a:xfrm rot="5400000">
              <a:off x="4446360" y="3626280"/>
              <a:ext cx="1823400" cy="585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2" y="6866"/>
                  </a:moveTo>
                  <a:arcTo wR="10800" hR="10800" stAng="-9518327" swAng="8573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2" y="6866"/>
                  </a:moveTo>
                  <a:arcTo wR="10800" hR="10800" stAng="-9518327" swAng="8573450"/>
                </a:path>
              </a:pathLst>
            </a:custGeom>
            <a:noFill/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m16Arc 211"/>
            <p:cNvSpPr/>
            <p:nvPr/>
          </p:nvSpPr>
          <p:spPr>
            <a:xfrm rot="5400000">
              <a:off x="4049640" y="3669120"/>
              <a:ext cx="1476360" cy="585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2" y="6866"/>
                  </a:moveTo>
                  <a:arcTo wR="10800" hR="10800" stAng="-9518327" swAng="8573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2" y="6866"/>
                  </a:moveTo>
                  <a:arcTo wR="10800" hR="10800" stAng="-9518327" swAng="8573450"/>
                </a:path>
              </a:pathLst>
            </a:custGeom>
            <a:noFill/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878000" y="4679280"/>
              <a:ext cx="567360" cy="95040"/>
            </a:xfrm>
            <a:custGeom>
              <a:avLst/>
              <a:gdLst/>
              <a:ahLst/>
              <a:rect l="l" t="t" r="r" b="b"/>
              <a:pathLst>
                <a:path w="207" h="42">
                  <a:moveTo>
                    <a:pt x="0" y="0"/>
                  </a:moveTo>
                  <a:lnTo>
                    <a:pt x="207" y="42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902840" y="3074400"/>
              <a:ext cx="608400" cy="196560"/>
            </a:xfrm>
            <a:custGeom>
              <a:avLst/>
              <a:gdLst/>
              <a:ahLst/>
              <a:rect l="l" t="t" r="r" b="b"/>
              <a:pathLst>
                <a:path w="222" h="87">
                  <a:moveTo>
                    <a:pt x="0" y="87"/>
                  </a:moveTo>
                  <a:lnTo>
                    <a:pt x="222" y="0"/>
                  </a:lnTo>
                </a:path>
              </a:pathLst>
            </a:custGeom>
            <a:noFill/>
            <a:ln w="2844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"/>
          <p:cNvGrpSpPr/>
          <p:nvPr/>
        </p:nvGrpSpPr>
        <p:grpSpPr>
          <a:xfrm>
            <a:off x="4132080" y="3235680"/>
            <a:ext cx="913680" cy="1476000"/>
            <a:chOff x="4132080" y="3235680"/>
            <a:chExt cx="913680" cy="1476000"/>
          </a:xfrm>
        </p:grpSpPr>
        <p:sp>
          <p:nvSpPr>
            <p:cNvPr id="433" name="m16Arc 211"/>
            <p:cNvSpPr/>
            <p:nvPr/>
          </p:nvSpPr>
          <p:spPr>
            <a:xfrm rot="5400000">
              <a:off x="4072680" y="3738600"/>
              <a:ext cx="147600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2" y="6866"/>
                  </a:moveTo>
                  <a:arcTo wR="10800" hR="10800" stAng="-9518327" swAng="8573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2" y="6866"/>
                  </a:moveTo>
                  <a:arcTo wR="10800" hR="10800" stAng="-9518327" swAng="8573450"/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m16Arc 211"/>
            <p:cNvSpPr/>
            <p:nvPr/>
          </p:nvSpPr>
          <p:spPr>
            <a:xfrm rot="5400000">
              <a:off x="3776760" y="3775320"/>
              <a:ext cx="1180440" cy="46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742" y="6866"/>
                  </a:moveTo>
                  <a:arcTo wR="10800" hR="10800" stAng="-9518327" swAng="8573450"/>
                  <a:lnTo>
                    <a:pt x="10800" y="10800"/>
                  </a:lnTo>
                  <a:close/>
                </a:path>
                <a:path fill="none" w="21600" h="21600">
                  <a:moveTo>
                    <a:pt x="742" y="6866"/>
                  </a:moveTo>
                  <a:arcTo wR="10800" hR="10800" stAng="-9518327" swAng="8573450"/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419720" y="4583160"/>
              <a:ext cx="468000" cy="85680"/>
            </a:xfrm>
            <a:custGeom>
              <a:avLst/>
              <a:gdLst/>
              <a:ahLst/>
              <a:rect l="l" t="t" r="r" b="b"/>
              <a:pathLst>
                <a:path w="213" h="39">
                  <a:moveTo>
                    <a:pt x="0" y="0"/>
                  </a:moveTo>
                  <a:lnTo>
                    <a:pt x="213" y="39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459320" y="3301200"/>
              <a:ext cx="441720" cy="158760"/>
            </a:xfrm>
            <a:custGeom>
              <a:avLst/>
              <a:gdLst/>
              <a:ahLst/>
              <a:rect l="l" t="t" r="r" b="b"/>
              <a:pathLst>
                <a:path w="201" h="72">
                  <a:moveTo>
                    <a:pt x="0" y="72"/>
                  </a:moveTo>
                  <a:lnTo>
                    <a:pt x="201" y="0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7" name=""/>
          <p:cNvSpPr txBox="1"/>
          <p:nvPr/>
        </p:nvSpPr>
        <p:spPr>
          <a:xfrm>
            <a:off x="3419640" y="333360"/>
            <a:ext cx="1584000" cy="70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华文行楷"/>
              </a:rPr>
              <a:t>思考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01:38:13Z</dcterms:created>
  <dc:creator/>
  <dc:description/>
  <dc:language>en-US</dc:language>
  <cp:lastModifiedBy>USER</cp:lastModifiedBy>
  <dcterms:modified xsi:type="dcterms:W3CDTF">2008-10-01T03:04:47Z</dcterms:modified>
  <cp:revision>35</cp:revision>
  <dc:subject/>
  <dc:title/>
</cp:coreProperties>
</file>